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7EA-19EE-4A71-AF5D-B57DE2EC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61C-05A4-4501-82C7-7109D1EE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DBA-A4FB-4416-BD05-3D08176E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E65-BF50-4FD7-85B1-34F94B85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7F8-8E71-4580-869B-62228D4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9D6-CF26-4FA7-B482-27CD814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EDE-870F-447D-9E92-88F5F95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F6C-5046-49CF-9C7D-94B00A7D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A35-8C9A-413C-BD26-976457A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117-42B9-407A-94E4-63049FF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B21-66B8-4C16-B0E2-81C4233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B22-39F1-41D7-8B70-544BA71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E3A4-A53B-457C-AB52-D85988EC1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raphing Linear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6243480" cy="2408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943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26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49568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6095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heck (0,0) just to be sur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1066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Graph t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S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828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TEST with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352680" cy="579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4368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14800" cy="58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26360" y="4908600"/>
            <a:ext cx="2184120" cy="156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4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deling Real-World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7619760" cy="83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601992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82296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79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257800" cy="132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971800" cy="2006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8600" y="2590920"/>
            <a:ext cx="60958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366920"/>
            <a:ext cx="8686800" cy="358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199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22:06:40Z</dcterms:created>
  <dc:creator>Susannah Graham</dc:creator>
  <dc:description/>
  <dc:language>en-US</dc:language>
  <cp:lastModifiedBy>BRSD</cp:lastModifiedBy>
  <dcterms:modified xsi:type="dcterms:W3CDTF">2010-04-06T13:16:51Z</dcterms:modified>
  <cp:revision>4</cp:revision>
  <dc:subject/>
  <dc:title>Lesson 7.5 Linear Inequalities</dc:title>
</cp:coreProperties>
</file>